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B71-441D-48D5-ABDC-995A9FCE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26D-167E-4D9C-B7E5-949590F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1CD-47D1-4A60-90F2-9E20C537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1D7-73A3-448F-AC6A-0C2308A4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5992-AD76-4DF7-8C74-23464F72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EC2E-4B31-4976-B51D-306A1BE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B5F-6BF7-4839-AE7D-ABFBEEDB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924C-A5A9-4E1B-82D8-9960E99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CD12-4B15-4110-9844-7B18DBCE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6558-4A36-4DBD-8DBE-1C7353F6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0BDA-6962-4EF2-86FF-12CDE433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2B0-2D07-40BB-B831-E7E1CD97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81D-53C8-452C-997E-59F7B6E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A43C-66B6-4A92-92EB-3A0AA36C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B5BB-6131-4574-A339-5337EFF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8CE-236D-470A-B585-8744CC6E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6C35-064D-4E15-BDBC-FD646B36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41A3-1862-4CB7-AF2B-400A31DF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ED458-C7D8-4BA0-B2F1-D0161B77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E90A-2DE0-4F6D-B0A8-B7FA913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F4E4-E132-4181-8ED1-7445D237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2610-E05A-48A1-AB11-1D6D2D8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1FF-813C-4286-B583-8308B62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CD86-56BC-4EAD-86AD-BEB362BC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4ECA-9972-4A8F-AA8E-C4EC80F9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DEDC-2277-4667-AF59-560954D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83B2-0E22-4FD6-8DC6-EB4B902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FD6B-6D09-4BA3-90A6-8278D293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AFC1-7041-4E66-8EDF-22783C86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DCF9-6283-4387-BD8B-3E0388F1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4E8D-469C-47EC-B598-C3F26E2E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EABA-9E0A-4D1D-A9A7-238C0170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6262-2F20-4353-A168-817D5A8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FF9-9683-4B89-BF30-BAACDFD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2130-E745-411B-85DF-94E1AB1E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80835-2BC5-4D7F-8F7E-26205543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300F-ED0B-4BBE-ABB2-750E8996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A33C9-F682-442F-ABBD-DB2B966B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1181-67BC-44DE-827E-05657DCA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5F933-DD60-4770-81F0-E54CDE6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E1F42-0A8E-487D-AFC4-C80883D6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61D8-C44F-4280-9668-626A14F7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043A-2A9E-4166-A52C-7529D2E6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EC7F-440F-419A-BF7D-4F5BCF6D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E77-2983-47CB-8A97-96D659E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0A7ED-5612-45C6-BF18-14AE23A1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B3120-A1DC-4740-89A1-D5139C42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25C1-84E1-4A2E-BAA7-2C4912B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C834-EC35-4A6A-9554-52A4E947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2BCA3-4836-46DE-9E39-B8000AE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79F7-245E-417D-826F-5D4B28F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8867A-92CC-43CC-98CC-EF8D041A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0F56-A028-4582-83C8-1F701F5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FC79-5FDB-4DDF-9E12-EB087E63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C27AE-A1F6-42A1-8A02-129A4B11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2F8-08E0-4794-8A93-5BFEE749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4A39-B706-498B-858E-1334FB29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E31-610D-4CA6-AB98-F36D959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523-F696-4443-8C5D-DD23CB9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327-5E1E-4151-9BD1-CBC9456A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48C6-B0C6-4B42-9C43-3CD7EC7F6A4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B189-48BD-42AF-8EED-2E3A9B6E7C3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ADA-C9BA-4A87-AE80-F1D57B31044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7508-0D4E-4656-812A-DCC62AFA4057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303D-D960-46A7-AE61-1F6E73768A1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umber of ___________________indicates how accurate a measurement is. The number of_______________will be determined by the instrument used to measure a quantity. The last sig.fig.of a measure is always _________, or an _____________.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a decimal point is present, zeros to the ______ of the first non-zero digit ( leading zeros ) are not significant.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a decimal point is __________, zeros to the right of the last non-zero digit ( trailing zeros ) are not significa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______________ zeros are significa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________ zeros, after a decimal, are significa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________________digits are significan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a measurement is written in _____________________, only the digits in the coefficient are significa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ed and defined values have _____________significant digi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0.0003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3.3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200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20000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rebuchet MS"/>
              </a:rPr>
              <a:t>Your answer is only as accurate as your _____ accurate measurem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rebuchet MS"/>
              </a:rPr>
              <a:t>When ADDING OR SUBTRACTING, round off to the NUMBER OF DECIMAL PLACES in your least accurate measurement, then _____________________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rebuchet MS"/>
              </a:rPr>
              <a:t>When MULTIPLYING OR DIVIDING, round your _______________off to the same number of ___________________as your least accurate measuremen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7:48:28Z</dcterms:created>
  <dc:creator>Administrator</dc:creator>
  <dc:description/>
  <dc:language>en-US</dc:language>
  <cp:lastModifiedBy>Administrator</cp:lastModifiedBy>
  <dcterms:modified xsi:type="dcterms:W3CDTF">2010-08-31T17:57:48Z</dcterms:modified>
  <cp:revision>2</cp:revision>
  <dc:subject/>
  <dc:title>Significant Figures</dc:title>
</cp:coreProperties>
</file>